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8A6-AE5C-40A9-9F65-D962677C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E5E-86B2-49EB-A800-3DD6999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13B-2371-4651-8735-12F0BC5D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BF3-EB12-41CB-B02F-25451668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12A-BBDC-4AD0-843C-3B959D2F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9BA-1AC7-4313-9676-92B7D0DA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FDC-E269-415B-9CDD-113F68F5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D9E-DF2F-49B0-9DAB-7FCB0A16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A62-FC32-49E8-A063-A8DC5D61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084-4125-4C9C-B943-A075CBEE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37D-0018-4025-9883-7E191E05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F68-2E58-49F4-BF98-FBD1BBB5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DFAB-2DA9-4F30-9193-DC5866B03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 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7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la Prueba del Repaso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a hija de mi 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el hermano de mi m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os padres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el hijo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a hija de mi her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a __________ muchos libros.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_ un sándwich de jamón y queso. (co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isa __________ la televisión en la sala. (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Sr. Gómez _________ la comida en el mercado. (compr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_ en un edificio. (viv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- Draw a floor plan of your house and label all the 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your EXAM MONDAY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R17-R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/ 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"/>
          <p:cNvSpPr/>
          <p:nvPr/>
        </p:nvSpPr>
        <p:spPr>
          <a:xfrm>
            <a:off x="3429000" y="396252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mi per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19810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ga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203688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49" name="Cloud"/>
          <p:cNvSpPr/>
          <p:nvPr/>
        </p:nvSpPr>
        <p:spPr>
          <a:xfrm>
            <a:off x="2743200" y="4562640"/>
            <a:ext cx="380988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tu gato f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040" y="2057400"/>
            <a:ext cx="29858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sombr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443320"/>
            <a:ext cx="3733920" cy="272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10080" y="2971800"/>
            <a:ext cx="2438640" cy="1593720"/>
          </a:xfrm>
          <a:prstGeom prst="rect">
            <a:avLst/>
          </a:prstGeom>
          <a:ln w="0">
            <a:noFill/>
          </a:ln>
        </p:spPr>
      </p:pic>
      <p:sp>
        <p:nvSpPr>
          <p:cNvPr id="54" name="Cloud"/>
          <p:cNvSpPr/>
          <p:nvPr/>
        </p:nvSpPr>
        <p:spPr>
          <a:xfrm>
            <a:off x="3200400" y="4648320"/>
            <a:ext cx="358128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su sombre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505320" cy="2546640"/>
          </a:xfrm>
          <a:prstGeom prst="rect">
            <a:avLst/>
          </a:prstGeom>
          <a:ln w="0">
            <a:noFill/>
          </a:ln>
        </p:spPr>
      </p:pic>
      <p:sp>
        <p:nvSpPr>
          <p:cNvPr id="57" name="Cloud"/>
          <p:cNvSpPr/>
          <p:nvPr/>
        </p:nvSpPr>
        <p:spPr>
          <a:xfrm>
            <a:off x="2590920" y="4648320"/>
            <a:ext cx="3657600" cy="21002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su ca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43640" y="22096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 aho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962520" cy="2879640"/>
          </a:xfrm>
          <a:prstGeom prst="rect">
            <a:avLst/>
          </a:prstGeom>
          <a:ln w="0">
            <a:noFill/>
          </a:ln>
        </p:spPr>
      </p:pic>
      <p:sp>
        <p:nvSpPr>
          <p:cNvPr id="61" name="Cloud"/>
          <p:cNvSpPr/>
          <p:nvPr/>
        </p:nvSpPr>
        <p:spPr>
          <a:xfrm>
            <a:off x="3048120" y="4943520"/>
            <a:ext cx="373356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nuestra ca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361960" cy="177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gorra az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2971800" y="4495680"/>
            <a:ext cx="350532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mi gorra az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30968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48320" y="17524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858000" y="1752480"/>
            <a:ext cx="1762200" cy="1592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28600" y="4572000"/>
            <a:ext cx="2209680" cy="151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666880" y="4343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4724280" y="4038480"/>
            <a:ext cx="2067120" cy="2210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7162920" y="4724280"/>
            <a:ext cx="1614240" cy="1216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40" y="3733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5960" y="3733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26000" y="3290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35680" y="3290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76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44560" y="6172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9760" y="62485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1172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29080" cy="1630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3124440" cy="2382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04920" y="4081320"/>
            <a:ext cx="2514600" cy="1733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352680" y="4038480"/>
            <a:ext cx="2657520" cy="1724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3886200"/>
            <a:ext cx="2286000" cy="1981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2600" y="2286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54400" y="2604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781680" y="533520"/>
            <a:ext cx="2095560" cy="2181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54880" y="2604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0" y="5805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1840" y="579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7680" y="5805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7:41:09Z</dcterms:created>
  <dc:creator>Helen Zumaeta</dc:creator>
  <dc:description/>
  <dc:language>en-US</dc:language>
  <cp:lastModifiedBy>Helen Zumaeta</cp:lastModifiedBy>
  <dcterms:modified xsi:type="dcterms:W3CDTF">2012-04-27T19:56:07Z</dcterms:modified>
  <cp:revision>11</cp:revision>
  <dc:subject/>
  <dc:title>Slide 1</dc:title>
</cp:coreProperties>
</file>